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295C-87DC-4EBC-9B59-2524456B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7621-A4B4-4743-8136-CB0E9E16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AF2F-AF88-4A5F-AA49-673D29A4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476B-B0B9-4A98-83E2-46AE680B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544A-F744-4489-AA4B-C8E51364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101-1361-4332-9C17-27D16079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360-1650-451C-AEA9-306D7EC5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0298-120E-4622-A83C-69021AF4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C526-2DD0-4481-90BD-A976AC59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F42F-746D-4DE6-9574-2EEBA320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B4C-9E94-45DD-BDD1-CD82AA55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2B0C-1FF3-4D0E-B3CC-3FAD9CC0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5053-CC3A-478F-9470-F4DFF9B4A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160880"/>
            <a:ext cx="6858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LDO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0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Projeto de L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243000" y="8631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MAIO D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6600" y="9201240"/>
            <a:ext cx="59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"/>
              </a:rPr>
              <a:t>Brasília – Patrimônio Cultural da Humanid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65360" y="0"/>
            <a:ext cx="16639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57:14Z</dcterms:created>
  <dc:creator>441104</dc:creator>
  <dc:description/>
  <dc:language>en-US</dc:language>
  <cp:lastModifiedBy>humberto.junior</cp:lastModifiedBy>
  <dcterms:modified xsi:type="dcterms:W3CDTF">2007-05-11T19:53:31Z</dcterms:modified>
  <cp:revision>19</cp:revision>
  <dc:subject/>
  <dc:title>Slide 1</dc:title>
</cp:coreProperties>
</file>